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1035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609600" cy="86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63800" cy="4348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742920" y="0"/>
            <a:ext cx="2863800" cy="4348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31480" y="650520"/>
            <a:ext cx="4343400" cy="325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Click to move the slide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59880" y="4125600"/>
            <a:ext cx="5288040" cy="39099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-360" y="8249760"/>
            <a:ext cx="2863800" cy="4352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742920" y="8249760"/>
            <a:ext cx="2863800" cy="4352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sr-Latn-C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C4821504-E934-47F3-8E4F-971E6CEDC709}" type="slidenum">
              <a:rPr b="0" lang="sr-Latn-C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43280" y="8250120"/>
            <a:ext cx="2863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2D21F14D-1029-43D8-818B-3C2664E30FBB}" type="slidenum">
              <a:rPr b="0" lang="sr-Latn-C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3184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59880" y="4125600"/>
            <a:ext cx="528804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743280" y="8250120"/>
            <a:ext cx="2863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B869ED45-5E91-444D-BA9D-3355EAAD9DC9}" type="slidenum">
              <a:rPr b="0" lang="sr-Latn-C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3184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59880" y="4125600"/>
            <a:ext cx="528804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743280" y="8250120"/>
            <a:ext cx="2863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32DDD49A-8CDC-4322-8161-84290195C876}" type="slidenum">
              <a:rPr b="0" lang="sr-Latn-C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3184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59880" y="4125600"/>
            <a:ext cx="528804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DCB51-43DB-4ED2-B8CC-A51473DDC7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5651D-38E3-4DD4-9688-DC3DD59652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90CB6-D906-4501-8180-1B696DFAC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6E6AF-0508-4938-9DCD-EC26EC3E9A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22495-08F8-4899-9F3E-D42351AE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06830-DC14-4A1D-8BB4-72AD9B25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1C040-6616-4201-B239-DAC008BB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FF688-96FE-48E5-ADD2-587BEF93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90CFE-48B3-458A-AFE7-F72271D6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82184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FA67F-AAE8-4C1A-8DBA-5E3CD13E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D3A0F-BF7F-4385-A018-58B944EA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003DE-2F63-460B-AC67-4449595EAF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D0D29-9323-4526-BE58-CE2F769E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69F28-D090-43A3-AA01-CC5AB223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4B10F-1FD5-4493-A42E-221A3E21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1DD49-5644-4F78-864A-5B7B75C42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08249-A362-4827-B78A-DA81D5EA0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AC1C9-90F6-40F5-BD7F-BF377E0BD9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5E834-402D-4D31-BF13-6064E94A7E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8A1F7-8447-44A7-A4F5-B8B8EFD28A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82184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54A0C-5090-4B02-9EF1-DCE6C9E8FD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869B4-D73F-4210-9298-202BB260B3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39F9C-299B-4955-83B7-31BEBB95F6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06D8B-2C45-429F-A3FD-FE590B8458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3" marL="1281240" indent="-29232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4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276C-8DDF-4606-9016-7C68BB46C019}" type="slidenum">
              <a:rPr b="0" lang="sr-Latn-C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40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Line 41"/>
          <p:cNvSpPr/>
          <p:nvPr/>
        </p:nvSpPr>
        <p:spPr>
          <a:xfrm>
            <a:off x="6084720" y="6597720"/>
            <a:ext cx="273708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Line 42"/>
          <p:cNvSpPr/>
          <p:nvPr/>
        </p:nvSpPr>
        <p:spPr>
          <a:xfrm>
            <a:off x="8820000" y="587700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Line 43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2" descr=""/>
          <p:cNvPicPr/>
          <p:nvPr/>
        </p:nvPicPr>
        <p:blipFill>
          <a:blip r:embed="rId2"/>
          <a:stretch/>
        </p:blipFill>
        <p:spPr>
          <a:xfrm>
            <a:off x="1979640" y="68400"/>
            <a:ext cx="5040360" cy="1199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3" marL="1281240" indent="-29232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4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B248-2E71-4F4D-B0A4-894082C51537}" type="slidenum">
              <a:rPr b="0" lang="sr-Latn-C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8280" y="1412640"/>
            <a:ext cx="82170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Интегрисане академске студије фармације</a:t>
            </a:r>
            <a:br>
              <a:rPr sz="2400"/>
            </a:br>
            <a:r>
              <a:rPr b="1" lang="sr-RS" sz="2400" spc="-1" strike="noStrike">
                <a:solidFill>
                  <a:srgbClr val="000000"/>
                </a:solidFill>
                <a:latin typeface="Candara"/>
              </a:rPr>
              <a:t>В18 </a:t>
            </a:r>
            <a:r>
              <a:rPr b="1" lang="sr-CS" sz="2400" spc="-1" strike="noStrike">
                <a:solidFill>
                  <a:srgbClr val="000000"/>
                </a:solidFill>
                <a:latin typeface="Candara"/>
              </a:rPr>
              <a:t>ФАРМАКОЛОГИЈА </a:t>
            </a: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2 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0560" y="2500200"/>
            <a:ext cx="8607240" cy="28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ndara"/>
              </a:rPr>
              <a:t>ЛАКСАНСИ И АНТИДИЈАРОИЦИ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ndara"/>
              </a:rPr>
              <a:t>ФАРМАКОТЕРАПИЈА ИНФЛАМАТОРНИХ БОЛЕСТИ ЦРЕВ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3. недељ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</a:rPr>
              <a:t>Проф</a:t>
            </a:r>
            <a:r>
              <a:rPr b="1" lang="sr-CS" sz="2400" spc="-1" strike="noStrike">
                <a:solidFill>
                  <a:srgbClr val="000000"/>
                </a:solidFill>
                <a:latin typeface="Candara"/>
              </a:rPr>
              <a:t>. др Марко Фолић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3534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ndara"/>
              </a:rPr>
              <a:t>Антидијароици </a:t>
            </a:r>
            <a:endParaRPr b="1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95280" y="162864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Дијареја - учестало избацивање течних столица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Узрочници: инфективни агенси, токсини, анксиозност, лекови..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ndara"/>
              </a:rPr>
              <a:t>Примарни аспекти: надокнада изгубљене воде и електролита оралним путем (ако болесник не повраћа) или интравенским инфузијама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lvl="2" marL="1251000" indent="-25092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ndara"/>
              </a:rPr>
              <a:t>Орално</a:t>
            </a:r>
            <a:r>
              <a:rPr b="0" lang="sr-Latn-RS" sz="1800" spc="-1" strike="noStrike">
                <a:solidFill>
                  <a:srgbClr val="000000"/>
                </a:solidFill>
                <a:latin typeface="Candara"/>
              </a:rPr>
              <a:t>: </a:t>
            </a:r>
            <a:r>
              <a:rPr b="0" lang="sr-RS" sz="1800" spc="-1" strike="noStrike">
                <a:solidFill>
                  <a:srgbClr val="000000"/>
                </a:solidFill>
                <a:latin typeface="Candara"/>
              </a:rPr>
              <a:t>раствор натријум хлорида и глукозе, постепено, у малим дозама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Антибиотике треба примењивати само код дијареја проузрокованих инвазивним бактеријама које продиру у цревни зид и крвоток </a:t>
            </a:r>
            <a:r>
              <a:rPr b="0" i="1" lang="sr-RS" sz="2000" spc="-1" strike="noStrike">
                <a:solidFill>
                  <a:srgbClr val="000000"/>
                </a:solidFill>
                <a:latin typeface="Candara"/>
              </a:rPr>
              <a:t>(салмонелозе, шигелозе, </a:t>
            </a: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Campylobacter jejuni, Yersinia enterocolitica</a:t>
            </a:r>
            <a:r>
              <a:rPr b="0" i="1" lang="sr-RS" sz="2000" spc="-1" strike="noStrike">
                <a:solidFill>
                  <a:srgbClr val="000000"/>
                </a:solidFill>
                <a:latin typeface="Candara"/>
              </a:rPr>
              <a:t>...</a:t>
            </a: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95280" y="155700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Дијареје изазване неинфективним узрочником (радијациони ентеритис, малапсорпционе, диспептичне дијареје): опиоиди - лоперамид или дифеноксилат </a:t>
            </a:r>
            <a:r>
              <a:rPr b="0" i="1" lang="en-US" sz="1900" spc="-1" strike="noStrike">
                <a:solidFill>
                  <a:srgbClr val="000000"/>
                </a:solidFill>
                <a:latin typeface="Candara"/>
              </a:rPr>
              <a:t>(у дигестивном тракту стимулишу µ рецепторе и инхибирају пропулзивни мотилитет). 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Дифеноксилат се често комбинује са атропином који антимускаринским дејством додатно смањује пропулзивни мотилитет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ОПРЕЗ: Не примењивати их уколико је у питању инфекција инвазивним бактеријама; </a:t>
            </a:r>
            <a:r>
              <a:rPr b="0" i="1" lang="en-US" sz="1900" spc="-1" strike="noStrike">
                <a:solidFill>
                  <a:srgbClr val="000000"/>
                </a:solidFill>
                <a:latin typeface="Candara"/>
              </a:rPr>
              <a:t>смањује се одстрањивање проузроковача и олакшава прелазак у зид црева. 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Нежељена дејства: 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Лоперамид: бол у трбуху, сувоћа уста, мучнина, опстипација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Дифеноксилат: мучнина, свраб, ошамућеност, утрнулост екстремитета. 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4" name="Title 1"/>
          <p:cNvSpPr/>
          <p:nvPr/>
        </p:nvSpPr>
        <p:spPr>
          <a:xfrm>
            <a:off x="395280" y="476280"/>
            <a:ext cx="835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ndara"/>
              </a:rPr>
              <a:t>Антидијароици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9152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Смоле</a:t>
            </a: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sr-CS" sz="3300" spc="-1" strike="noStrike">
                <a:solidFill>
                  <a:srgbClr val="000000"/>
                </a:solidFill>
                <a:latin typeface="Candara"/>
              </a:rPr>
              <a:t>и бизмут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Холестирамин, холестипол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Везују жучне соли и бактеријске токсине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Бизмут субсалицилат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Комплексно дејство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ndara"/>
              </a:rPr>
              <a:t>Антибактеријски ефекат, инхибира ефекте бактеријских токсина, повећава апсорпцију воде и електролита од стране зида црева, инхибира синтезу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простагландина..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Путничка дијареј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Нежељена дејства: тинитус, црно обојена столиц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Адсорбенси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Метилцелулоза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Са</a:t>
            </a:r>
            <a:r>
              <a:rPr b="0" lang="sr-CS" sz="2200" spc="-1" strike="noStrike" baseline="30000">
                <a:solidFill>
                  <a:srgbClr val="000000"/>
                </a:solidFill>
                <a:latin typeface="Candara"/>
              </a:rPr>
              <a:t>2+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 карбофил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Глине (каолин)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Силикати (М</a:t>
            </a:r>
            <a:r>
              <a:rPr b="0" lang="sl-SI" sz="2200" spc="-1" strike="noStrike">
                <a:solidFill>
                  <a:srgbClr val="000000"/>
                </a:solidFill>
                <a:latin typeface="Candara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Аl-силикат)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ndara"/>
              </a:rPr>
              <a:t>Пектин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Candara"/>
              </a:rPr>
              <a:t>Везују микроорганизме или токисне, формирају са водом получврсти гел, нормализују конзистенцију фецеса, мењају цревну флору...???</a:t>
            </a:r>
            <a:r>
              <a:rPr b="0" lang="sr-CS" sz="1800" spc="-1" strike="noStrike">
                <a:solidFill>
                  <a:srgbClr val="000000"/>
                </a:solidFill>
                <a:latin typeface="Candar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Постантибиотска дијареја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24000" y="1557360"/>
            <a:ext cx="849600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астаје после дуже примене антибиотика широког спектра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, због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наруш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авања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равнотеж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е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између бактерија у колону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Блажи облици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29640" indent="-31644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рекид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даље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примене антибиотика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пробиотик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Тежи облици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астају услед прерастања анаеробне бактерије Clostridium difficile, чији егзотоксини А и Б изазивају некрозу епитела колона и настанак псеудомембранозног колитиса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Уколико се</a:t>
            </a: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 токсини А или Б докажу у столици: метронидазол, </a:t>
            </a:r>
            <a:r>
              <a:rPr b="0" i="1" lang="sr-Latn-RS" sz="2000" spc="-1" strike="noStrike">
                <a:solidFill>
                  <a:srgbClr val="000000"/>
                </a:solidFill>
                <a:latin typeface="Candara"/>
              </a:rPr>
              <a:t>per os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Изостанак излечења за 7 дана: ванкомицин, </a:t>
            </a:r>
            <a:r>
              <a:rPr b="0" lang="sr-Latn-RS" sz="2000" spc="-1" strike="noStrike">
                <a:solidFill>
                  <a:srgbClr val="000000"/>
                </a:solidFill>
                <a:latin typeface="Candara"/>
              </a:rPr>
              <a:t>per os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,</a:t>
            </a: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 14 дана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Одсуство тарапијског ефекта ванкомицина (у резистентним случајевима): фидаксомицин</a:t>
            </a:r>
            <a:r>
              <a:rPr b="0" lang="sr-Latn-RS" sz="2000" spc="-1" strike="noStrike">
                <a:solidFill>
                  <a:srgbClr val="000000"/>
                </a:solidFill>
                <a:latin typeface="Candara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не апсорбује</a:t>
            </a:r>
            <a:r>
              <a:rPr b="0" lang="sr-Latn-R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се</a:t>
            </a: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 и успешно делује на Clostridium difficile)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Улцерозни колитис и Кронова болес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Терапијски аспекти</a:t>
            </a:r>
            <a:endParaRPr b="1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28280"/>
            <a:ext cx="8291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Аутоимуним инфламаторна оболења зида колона и танког црева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5-аминосалицилна киселина (5-АСА) - спречава синтезу простагландина у зиду црева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78600" indent="-34416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Месалазин (5-аминосалицилна киселина)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78600" indent="-34416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Олсалазин - димер сачињен од два молекула 5-АСА-е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78600" indent="-34416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Сулфасалазин - комбинација 5-АСА-е и сулфапиридин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Сви препарати се слабо апсорбују </a:t>
            </a: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(5-АСА доспева у колон и делује на инфламирани зид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Нежељена дејства 5-АСА-е: главобоља, болови у трбуху, ометање апсорпције фолне киселине, дијареја и неплодност код мушкараца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Сулфапиридин из сулфасалазина се апсорбује у значајној мери и може изазавти хемолитичку анемију и кожне промене (Стивен-Џонсонов синдром)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Балсалазид - након </a:t>
            </a: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per os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примене се не апсорбује, доспева у колон, где се под дејством бактерија разлаже на 5-АСА и инертни                             4-аминобензоил-бета-аланин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Примена кортикостероида (системски или у виду клизме): када више не постоји адекватна реакција на 5-АСА-у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Ремисија болести (опрез: могућа озбиљна нежељена дејства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Најбољи ефекат: будесонид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4" name="Title 1"/>
          <p:cNvSpPr/>
          <p:nvPr/>
        </p:nvSpPr>
        <p:spPr>
          <a:xfrm>
            <a:off x="457200" y="33336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r-RS" sz="2800" spc="-1" strike="noStrike">
                <a:solidFill>
                  <a:srgbClr val="000000"/>
                </a:solidFill>
                <a:latin typeface="Candara"/>
              </a:rPr>
              <a:t>Улцерозни колитис и Кронова болест</a:t>
            </a:r>
            <a:br>
              <a:rPr sz="2800"/>
            </a:br>
            <a:r>
              <a:rPr b="1" lang="sr-RS" sz="2800" spc="-1" strike="noStrike">
                <a:solidFill>
                  <a:srgbClr val="000000"/>
                </a:solidFill>
                <a:latin typeface="Candara"/>
              </a:rPr>
              <a:t>Терапијски аспекти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821844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Биолошка терапија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Код тежих облика Кронове болести: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Инфликсимаб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атализумаб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далимумаб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Ц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ертолизумаб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Опрез: О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пасност од настанка озбиљних инфекција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 (имуносупресивни ефекат лека) и повећан ризик од појаве лимфома (инфликсимаб) односно других малигних  болести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ndara"/>
              </a:rPr>
              <a:t>Опстипацијa</a:t>
            </a:r>
            <a:endParaRPr b="1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95280" y="1484280"/>
            <a:ext cx="82915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ndara"/>
              </a:rPr>
              <a:t>Разноликост</a:t>
            </a:r>
            <a:r>
              <a:rPr b="0" lang="sr-Latn-RS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ndara"/>
              </a:rPr>
              <a:t>дефиниција...</a:t>
            </a:r>
            <a:r>
              <a:rPr b="0" lang="sr-Latn-RS" sz="22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685800" indent="-35856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Изостанак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спонтане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столице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дуже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48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72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час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ndara"/>
              </a:rPr>
              <a:t>Потенцијални узроци</a:t>
            </a:r>
            <a:r>
              <a:rPr b="0" lang="sr-Latn-RS" sz="2200" spc="-1" strike="noStrike">
                <a:solidFill>
                  <a:srgbClr val="000000"/>
                </a:solidFill>
                <a:latin typeface="Candara"/>
              </a:rPr>
              <a:t>:</a:t>
            </a:r>
            <a:r>
              <a:rPr b="0" lang="sr-RS" sz="22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Психошки</a:t>
            </a:r>
            <a:r>
              <a:rPr b="0" lang="sr-Latn-R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аспекти</a:t>
            </a:r>
            <a:r>
              <a:rPr b="0" lang="sr-Latn-R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(сузбијање рефлекса дефекације због страха, стида и слично)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Неправилна исхрана (недовољно течности, храна са мало остатака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Урођене</a:t>
            </a:r>
            <a:r>
              <a:rPr b="0" lang="vi-VN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Candara"/>
              </a:rPr>
              <a:t>/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или</a:t>
            </a:r>
            <a:r>
              <a:rPr b="0" lang="vi-VN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стечене малформације</a:t>
            </a:r>
            <a:r>
              <a:rPr b="0" lang="sr-Latn-R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обољења</a:t>
            </a:r>
            <a:r>
              <a:rPr b="0" lang="vi-VN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црева</a:t>
            </a:r>
            <a:r>
              <a:rPr b="0" lang="vi-VN" sz="2000" spc="-1" strike="noStrike">
                <a:solidFill>
                  <a:srgbClr val="000000"/>
                </a:solidFill>
                <a:latin typeface="Candara"/>
              </a:rPr>
              <a:t>: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иритабилни</a:t>
            </a:r>
            <a:r>
              <a:rPr b="0" lang="vi-VN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колон</a:t>
            </a:r>
            <a:r>
              <a:rPr b="0" lang="sr-Latn-RS" sz="20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мегаколон</a:t>
            </a:r>
            <a:r>
              <a:rPr b="0" lang="vi-VN" sz="20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дуга</a:t>
            </a:r>
            <a:r>
              <a:rPr b="0" lang="sr-Latn-R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црева</a:t>
            </a:r>
            <a:r>
              <a:rPr b="0" lang="sr-Latn-RS" sz="20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хемороиди</a:t>
            </a:r>
            <a:r>
              <a:rPr b="0" lang="vi-VN" sz="20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тумори</a:t>
            </a:r>
            <a:r>
              <a:rPr b="0" lang="sr-Latn-RS" sz="2000" spc="-1" strike="noStrike">
                <a:solidFill>
                  <a:srgbClr val="000000"/>
                </a:solidFill>
                <a:latin typeface="Candar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Поједине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болести</a:t>
            </a:r>
            <a:r>
              <a:rPr b="0" lang="sr-Latn-RS" sz="2000" spc="-1" strike="noStrike">
                <a:solidFill>
                  <a:srgbClr val="000000"/>
                </a:solidFill>
                <a:latin typeface="Candara"/>
              </a:rPr>
              <a:t>: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мултипла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склероза</a:t>
            </a:r>
            <a:r>
              <a:rPr b="0" lang="sr-Latn-RS" sz="20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Паркинсонова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болест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депресија</a:t>
            </a:r>
            <a:r>
              <a:rPr b="0" lang="sr-Latn-RS" sz="2000" spc="-1" strike="noStrike">
                <a:solidFill>
                  <a:srgbClr val="000000"/>
                </a:solidFill>
                <a:latin typeface="Candar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ndara"/>
              </a:rPr>
              <a:t>Медикаменти</a:t>
            </a:r>
            <a:r>
              <a:rPr b="0" lang="sr-Latn-RS" sz="2200" spc="-1" strike="noStrike">
                <a:solidFill>
                  <a:srgbClr val="000000"/>
                </a:solidFill>
                <a:latin typeface="Candara"/>
              </a:rPr>
              <a:t>:</a:t>
            </a:r>
            <a:r>
              <a:rPr b="1" lang="sr-Latn-RS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ndara"/>
              </a:rPr>
              <a:t>аналгетици</a:t>
            </a:r>
            <a:r>
              <a:rPr b="0" lang="sr-Latn-RS" sz="22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andara"/>
              </a:rPr>
              <a:t>антациди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ndara"/>
              </a:rPr>
              <a:t>са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ndara"/>
              </a:rPr>
              <a:t>алуминијумом</a:t>
            </a:r>
            <a:r>
              <a:rPr b="0" lang="sr-Latn-RS" sz="2200" spc="-1" strike="noStrike">
                <a:solidFill>
                  <a:srgbClr val="000000"/>
                </a:solidFill>
                <a:latin typeface="Candar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ndara"/>
              </a:rPr>
              <a:t>Терапијски</a:t>
            </a:r>
            <a:r>
              <a:rPr b="0" lang="sr-Latn-RS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ndara"/>
              </a:rPr>
              <a:t>аспекти</a:t>
            </a:r>
            <a:r>
              <a:rPr b="0" lang="sr-Latn-RS" sz="2200" spc="-1" strike="noStrike">
                <a:solidFill>
                  <a:srgbClr val="000000"/>
                </a:solidFill>
                <a:latin typeface="Candara"/>
              </a:rPr>
              <a:t>: </a:t>
            </a:r>
            <a:r>
              <a:rPr b="0" lang="sr-RS" sz="2200" spc="-1" strike="noStrike">
                <a:solidFill>
                  <a:srgbClr val="000000"/>
                </a:solidFill>
                <a:latin typeface="Candara"/>
              </a:rPr>
              <a:t>едукација болесника о правилној исхрани и навикама</a:t>
            </a:r>
            <a:r>
              <a:rPr b="0" lang="sr-Latn-RS" sz="22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sr-RS" sz="2200" spc="-1" strike="noStrike">
                <a:solidFill>
                  <a:srgbClr val="000000"/>
                </a:solidFill>
                <a:latin typeface="Candara"/>
              </a:rPr>
              <a:t>примена</a:t>
            </a:r>
            <a:r>
              <a:rPr b="0" lang="sr-Latn-RS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ndara"/>
              </a:rPr>
              <a:t>лаксанса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ndara"/>
              </a:rPr>
              <a:t>Класификација лаксанса</a:t>
            </a:r>
            <a:endParaRPr b="1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Лаксанси који повећавају волумен цревног садржај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Осмотски лаксанси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Лаксанси који делују надражајно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Лаксанси који омекшавају столицу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ndara"/>
              </a:rPr>
              <a:t>Остали лаксанси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Лаксанси који повећавају волумен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цревног садржаја 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5280" y="1628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Примарна препорука: употреба течности и хране са доста несварљивих остатака (целулоза, пектин и лигнин) која везује воду. 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lvl="1" marL="722160" indent="-37764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Повећање волумена цревног садржаја растеже зид црева и изазива дефекацију. 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Препарати целулозе, пшеничне мекиње...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Регулисање столице: 4-5 дана од почетка примене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</a:rPr>
              <a:t>Безбедан облик терапије опстипације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Осмотски лаксанси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95280" y="1557000"/>
            <a:ext cx="835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Не апсорбују се након оралног уношења, повећавају осмоларитет цревног садржаја и изазивају прелазак воде из зида црева у лумен. 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Повећање количине танко-цревног садржаја...прелазак волуминозног садржаја и растезање зида колона...успостављање рефлекса дефекације. 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Горка со (МgSО4), Мg цитрат, Мg хидроксид, лактулоза, сорбитол, манитол, слабо ресорптивне органске киселинe (лимунска, винска и јабучна). 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Најчешће индикације: припрема црева за контрастне рендгенске студије (иригографију, цекографију), колоноскопију, спречавање апсорпције отрова након тровања... 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Нису погодни код “обичне” опстипације </a:t>
            </a:r>
            <a:r>
              <a:rPr b="0" i="1" lang="en-US" sz="1900" spc="-1" strike="noStrike">
                <a:solidFill>
                  <a:srgbClr val="000000"/>
                </a:solidFill>
                <a:latin typeface="Candara"/>
              </a:rPr>
              <a:t>(изазивају нелагодност, грчеве и пражњење готово целог дигестивног тракта)</a:t>
            </a: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ndara"/>
              </a:rPr>
              <a:t>Лактулоза: терапија и превенција хепатичке коме код болесника са тешком цирозом и крварењима у дигестивном тракту.</a:t>
            </a:r>
            <a:endParaRPr b="0" lang="en-US" sz="19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ndara"/>
              </a:rPr>
              <a:t>Изоосмотски раствори за испирање дебелог црева </a:t>
            </a:r>
            <a:endParaRPr b="1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46040" y="16282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Садрже полиетилен гликол, натријум сулфат, натријум хлорид, натријум бикарбонат и калијум хлорид 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Пацијент мора да попије 4 литра таквог раствора за 2-4 часа 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Не апсорбују се у значајној мери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ndara"/>
              </a:rPr>
              <a:t>Ефикасан начин за припрему дебелог црева за операцију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Лаксанси који делују надражајно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5280" y="148392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Антрахинони (гликозиди сене, каскаре, алоје) - након оралног уношења и апсорпције активирају неуроне зида колона и тако убрзају пропулзивни мотилитет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25320" indent="-28080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ndara"/>
              </a:rPr>
              <a:t>Време почетка дејства: око 8 часова након уношења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Слично делује бисакодил (орална или ректална примена)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800" spc="-1" strike="noStrike">
                <a:solidFill>
                  <a:srgbClr val="000000"/>
                </a:solidFill>
                <a:latin typeface="Candara"/>
              </a:rPr>
              <a:t>Примена фенолфталеина се у данашње време избегава (канцерогеност)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Рицинусово уље - у танком цреву, под дејством липазе, ослобађа рицинолску киселину, </a:t>
            </a:r>
            <a:r>
              <a:rPr b="0" i="1" lang="sr-RS" sz="1800" spc="-1" strike="noStrike">
                <a:solidFill>
                  <a:srgbClr val="000000"/>
                </a:solidFill>
                <a:latin typeface="Candara"/>
              </a:rPr>
              <a:t>која делује надражајно на неуроне у зиду танког и дебелог црева</a:t>
            </a:r>
            <a:r>
              <a:rPr b="0" lang="sr-RS" sz="18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lvl="1" marL="625320" indent="-28080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ndara"/>
              </a:rPr>
              <a:t>Брзо дејство, након 2-3 часа од уношења; због јаких грчева и “чупања” у трбуху слабије се користи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ndara"/>
              </a:rPr>
              <a:t>Препорука: Надражајне лаксативе треба користити повремено и краткотрајно </a:t>
            </a:r>
            <a:r>
              <a:rPr b="0" i="1" lang="sr-RS" sz="1800" spc="-1" strike="noStrike">
                <a:solidFill>
                  <a:srgbClr val="000000"/>
                </a:solidFill>
                <a:latin typeface="Candara"/>
              </a:rPr>
              <a:t>(код хроничне примене долази до оштећења неурона у зиду црева и погоршања опстипације)</a:t>
            </a:r>
            <a:r>
              <a:rPr b="0" lang="sr-RS" sz="18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Лаксанси који омекшавају столицу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5280" y="1557360"/>
            <a:ext cx="8424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Олакшавају дефекацију разводњавањем и омекшавањем фецеса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Парафинскo уље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Напомена: Хроничну примену треба избегавати јер његове капљице могу продрети у зид црева и блокирати лимфне путеве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Канцерогеност?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Детерџенти (површински активне материје) диоктил калцијум сулфосукцинат, диоктил калијум сулфосукцинат и докусат диоктил натријум сулфосукцинат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Смањују површински напон воде и омогућавају натапање и размекшавање садржаја колона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Делују након 1-2 дана; препорука - ректалнa примена (орална примена: потенцијално токсични ефекат на јетру).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Поједине индикације: болна анална фисура, тромбозиран спољашњи хемороид или перинеални апсцес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ndara"/>
              </a:rPr>
              <a:t>Остали лаксанси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4400" y="1483920"/>
            <a:ext cx="84452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Глицерол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85080" indent="-34416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ndara"/>
              </a:rPr>
              <a:t>Надражајни, осмотски, омекшивач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lvl="1" marL="685080" indent="-34416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ndara"/>
              </a:rPr>
              <a:t>Користи се ректално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lvl="1" marL="685080" indent="-34416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Погодан за “опоравак”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цревне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функције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након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периода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лоше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исхране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припреми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за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преглед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или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операцију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пре/након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порођаја, код медикаментима узрокованих констипација (</a:t>
            </a:r>
            <a:r>
              <a:rPr b="0" i="1" lang="en-US" sz="1800" spc="-1" strike="noStrike">
                <a:solidFill>
                  <a:srgbClr val="000000"/>
                </a:solidFill>
                <a:latin typeface="Candara"/>
              </a:rPr>
              <a:t>наркоаналгетици, антидепресиви, блокатори калцијумових канала, антиконвулзиви...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lvl="1" marL="685080" indent="-34416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Нежељена дејства: нелагодност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у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трбуху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гасови,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грчеви, алергијске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реакције</a:t>
            </a:r>
            <a:r>
              <a:rPr b="0" lang="vi-VN" sz="18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Жучне соли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85080" indent="-34416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ndara"/>
              </a:rPr>
              <a:t>Дијареја као нежељено дејство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ndara"/>
              </a:rPr>
              <a:t>Клизм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lvl="1" marL="685080" indent="-344160">
              <a:spcBef>
                <a:spcPts val="4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ndara"/>
              </a:rPr>
              <a:t>Вода, сапуница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1:20:01Z</dcterms:created>
  <dc:creator>Marko</dc:creator>
  <dc:description/>
  <dc:language>en-US</dc:language>
  <cp:lastModifiedBy>User</cp:lastModifiedBy>
  <dcterms:modified xsi:type="dcterms:W3CDTF">2017-09-14T21:57:26Z</dcterms:modified>
  <cp:revision>819</cp:revision>
  <dc:subject>Klinicki farmakolog</dc:subject>
  <dc:title>Verzija za sajt fakulteta</dc:title>
</cp:coreProperties>
</file>